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Holly%20Jolly%20Christmas.wav" ContentType="audio/x-wav"/>
  <Override PartName="/ppt/media/image7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D196-9941-4368-A616-46E0C9014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4042-3E1F-445E-9DBC-495A89B8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BC2-53CB-4E70-B414-0A4B8964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9C7-9224-46CC-990C-F7AC53FF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C357-6701-4986-AAFD-1DB8F6FE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4B14-8B3D-4736-BEB0-D7824AE8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13A-9DA5-49AF-AC6F-770D4E2C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024-485F-498C-9D60-A66702F2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3BA-1FA6-4C0D-865E-44784415F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BA49-0F40-41A5-A159-5C4B86DA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8B6-D206-48A6-9B9D-8C7B5FBC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EBC1-C771-4075-BFAE-7047851D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E100-B17F-438C-BBF5-73F9983F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Holly%20Jolly%20Christma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03280" y="620640"/>
            <a:ext cx="5689800" cy="265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holly jolly chrismas</a:t>
            </a:r>
            <a:endParaRPr b="0" lang="en-US" sz="1800" spc="1" strike="noStrike">
              <a:ln w="9360">
                <a:solidFill>
                  <a:srgbClr val="00ff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780000" y="3213000"/>
            <a:ext cx="1855800" cy="3475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588000" y="558972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Sofía, </a:t>
            </a:r>
            <a:r>
              <a:rPr b="1" lang="en-US" sz="2000" spc="-1" strike="noStrike">
                <a:solidFill>
                  <a:srgbClr val="3366ff"/>
                </a:solidFill>
                <a:latin typeface="Times New Roman"/>
              </a:rPr>
              <a:t>César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y </a:t>
            </a:r>
            <a:r>
              <a:rPr b="1" lang="en-US" sz="2000" spc="-1" strike="noStrike">
                <a:solidFill>
                  <a:srgbClr val="cc00ff"/>
                </a:solidFill>
                <a:latin typeface="Times New Roman"/>
              </a:rPr>
              <a:t>Andrea Esp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it’s the best time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34320" cy="45259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split dir="out" orient="horz"/>
    <p:sndAc>
      <p:stSnd>
        <p:snd r:embed="rId2" name="Holly%20Jolly%20Christma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don’t know if there’ll be sno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ut have a cup of ch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40000" y="2664000"/>
            <a:ext cx="4824360" cy="36842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ave a holly jolly christm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when you walk down the str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1280" y="3716280"/>
            <a:ext cx="2008080" cy="26766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916360" y="2276640"/>
            <a:ext cx="5472000" cy="4103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ay hello to friends you  know 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and everyone you m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797360"/>
            <a:ext cx="2152800" cy="160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27280" y="1989000"/>
            <a:ext cx="3694320" cy="4273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991200" y="4653000"/>
            <a:ext cx="2152800" cy="16002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09:07:00Z</dcterms:created>
  <dc:creator>pc10</dc:creator>
  <dc:description/>
  <dc:language>en-US</dc:language>
  <cp:lastModifiedBy>pc10</cp:lastModifiedBy>
  <dcterms:modified xsi:type="dcterms:W3CDTF">2011-12-19T11:33:05Z</dcterms:modified>
  <cp:revision>4</cp:revision>
  <dc:subject/>
  <dc:title>Diapositiva 1</dc:title>
</cp:coreProperties>
</file>